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61A8C-804A-4EAF-832F-6173147F44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fld id="{0B7EDEFF-A9B7-4A0F-AFB0-F8A556C22A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fld id="{10DCF91E-9405-4FBF-A515-FCD1BF173D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0DCF1-D0CD-413A-9D6F-B6E5DAFBE3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153CE-A63B-4BC5-A46C-F864A7A04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C0D44-4057-4EC6-8C18-DE6C3BC2C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E28DD-9AD4-4BA1-822C-B3812B8EA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DBF27-95F7-496B-86D9-27A8FF800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95803-F57F-4BF3-893D-AFE27AB2F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1061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85089-0ABF-4B62-A72B-9D54DF7BB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E60C4-87AE-46FA-8BC7-F617FC83D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73D7C-6D7C-4684-A1A7-C8466BFCB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BA155-4D43-4200-A24D-FB9499937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CAEC2-367A-4794-A89E-0A7524EF2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DDD3E-28CC-4ABF-8A51-EC0806A4A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F513C-8316-458C-B342-0EBB93CBA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1061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8" descr="LOGO"/>
          <p:cNvPicPr/>
          <p:nvPr/>
        </p:nvPicPr>
        <p:blipFill>
          <a:blip r:embed="rId2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8" descr="LOGO"/>
          <p:cNvPicPr/>
          <p:nvPr/>
        </p:nvPicPr>
        <p:blipFill>
          <a:blip r:embed="rId2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16E30-02C0-4CBD-89FB-BF6199A6ECFD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hyperlink" Target="https://www.youtube.com/watch?v=BQLDpcOcH_4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71640" y="1197000"/>
            <a:ext cx="6400800" cy="19051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4000"/>
            </a:b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5"/>
          <p:cNvSpPr/>
          <p:nvPr/>
        </p:nvSpPr>
        <p:spPr>
          <a:xfrm>
            <a:off x="1042920" y="1125360"/>
            <a:ext cx="7274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грисане академске студије фармациј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рмацеутска технологија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6"/>
          <p:cNvSpPr/>
          <p:nvPr/>
        </p:nvSpPr>
        <p:spPr>
          <a:xfrm>
            <a:off x="3995640" y="5229360"/>
            <a:ext cx="49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ц. др Ана Барјактареви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7"/>
          <p:cNvSpPr/>
          <p:nvPr/>
        </p:nvSpPr>
        <p:spPr>
          <a:xfrm>
            <a:off x="900000" y="3068640"/>
            <a:ext cx="748836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ЧНЕ ЕМУЛЗИЈ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ULSIONES</a:t>
            </a:r>
            <a:r>
              <a:rPr b="1" i="1" lang="sr-R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457200" y="1268280"/>
            <a:ext cx="8229600" cy="554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Избор уљане фаз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ље може имати лековито деловање или служи као носач липосолубилних леко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бор зависи од: жељених физичких карактеристика емулзије, степена мешања водене и уљане фазе, растворљивости лека у уљаној фази и жељене конзистенције финалне емулзиј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457200" y="1197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Уљану фазу у емулзијама за спољашњу примену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јчешће чине: течни парафин, бензил-бензоат и различита силиконска уљ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Најчешће коришћена уља у оралним емулзијам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цинусово уље и течни парафин – лаксативни ефека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бље уље – извор витамина А и 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ашидово уље – дијететски суплемен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Уљана фаза у парентералним емулзијам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i.m. примену користе се пречишћена минерална уљ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i.v. примену користе се пречишћена биљна уља (мешавина дуголанчаних триглицерида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2"/>
          <p:cNvSpPr/>
          <p:nvPr/>
        </p:nvSpPr>
        <p:spPr>
          <a:xfrm>
            <a:off x="539640" y="1125360"/>
            <a:ext cx="8064720" cy="58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љна уља су подложна оксидацији, могу да ужегну па је обавезан додатак антиоксидан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Емулзије типа У/В садрж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конзерванс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јчешће коришћени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тиоксиданти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тилхидроксианизол и бутилхидрокситолуол (0,2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фа-токоферо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кил естри галне киселине (0,001 – 0,1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јчешће коришћени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зерванси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ноксиетанол, бензојева киселна, естр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рахидроксибензојеве киселине – у оралним и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рматолошким емулзија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билност емулзије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395280" y="1844640"/>
            <a:ext cx="8353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мулзије се сматрају нестабилним системима, због слободн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ђуповршинске енергиј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 граници између 2 течне фазе које се не мешају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324000" y="3141720"/>
            <a:ext cx="8496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363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љана и водена фаза теже да се раздвоје јер се на тај начин смањује слободна међуфазна енергија а систем постаје термодинамички стабилниј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363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363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Е ЕМУЛЗИЈЕ стабилизују се  додатком емулгатор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63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363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билне емулзије (са аспекта примене) – карактеристике се не мењају у предвиђеном року употребе (код фарм. и козм. препарата од 2 до 5 година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363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>
            <a:off x="730080" y="1052640"/>
            <a:ext cx="8128080" cy="55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мулгатор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бор емулгатора зависи од типа емулзије, клиничке примене емулзије, потенцијалне токсичности, доступности и цене емулгато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пракси се чешће користи комбинација емулгатора него појединач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ела емулгатор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ршински активне материје (ПАМ) – сурфактанти 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нзид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имерни емулгатори и хидрофилни колоид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растворни емулгатори (фино уситњене чврст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пстанц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 –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UPAC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ефиниц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94920" y="1989000"/>
            <a:ext cx="8280360" cy="453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ршински активна материја је емулгатор који снижава површински напон у фази у којој је растворен и показује позитивну адсорпцију на међуповршини између уља и вод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ед снижавања међуповршинског напона емулгатор мора и да облаже капи унутрашње фазе у облику филма како би се спречило спајање (коалесценција) кап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М су амфифилне молекуле, које се састоје од хидрофилног (поларна глава) и липофилног - хидрофобног (неполарни реп) де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Content Placeholder 12" descr=""/>
          <p:cNvPicPr/>
          <p:nvPr/>
        </p:nvPicPr>
        <p:blipFill>
          <a:blip r:embed="rId1"/>
          <a:srcRect l="0" t="19373" r="47" b="0"/>
          <a:stretch/>
        </p:blipFill>
        <p:spPr>
          <a:xfrm>
            <a:off x="250920" y="1052640"/>
            <a:ext cx="8642160" cy="523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038320" y="1267920"/>
            <a:ext cx="5052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нкрофтово правил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3"/>
          <p:cNvSpPr/>
          <p:nvPr/>
        </p:nvSpPr>
        <p:spPr>
          <a:xfrm>
            <a:off x="250920" y="2852640"/>
            <a:ext cx="85690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љашња фаза емулзије биће она у којој је емулгатор растворљивиј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мулгатор растворљивији у води – емулзија типа У/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мулгатор растворљивији у уљу – емулзија типа В/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4"/>
          <p:cNvSpPr/>
          <p:nvPr/>
        </p:nvSpPr>
        <p:spPr>
          <a:xfrm>
            <a:off x="298440" y="2492280"/>
            <a:ext cx="8377200" cy="48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ЛБ број изражава равнотежно стање у молекулу ПАМ у односу на удео и врсту поларних и неполарних груп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ЛБ систем користи скалу од 0 до 20 (Грифин, 1949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пофилне ПАМ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0 &lt;  ХЛБ &lt;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дрофилне ПАМ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&lt; ХЛБ &lt; 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М са ХЛБ 3 – 6 дају емулзије типа В/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М са ХЛБ 8 – 18 дају емулзије типа У/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3"/>
          <p:cNvSpPr/>
          <p:nvPr/>
        </p:nvSpPr>
        <p:spPr>
          <a:xfrm>
            <a:off x="539640" y="1197000"/>
            <a:ext cx="813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ЛБ вредност емулгатор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Hydrophile – Lypophile Balanc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4360" y="1142640"/>
            <a:ext cx="8269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ификација ПАМ према функциј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58560" y="2133360"/>
            <a:ext cx="7010280" cy="29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Л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- 3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типенећа сред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– 6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/У емулгатори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 – 9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ства за квашењ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 – 18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/В емулгатор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 – 18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лубилизатор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3"/>
          <p:cNvSpPr/>
          <p:nvPr/>
        </p:nvSpPr>
        <p:spPr>
          <a:xfrm>
            <a:off x="539640" y="5445000"/>
            <a:ext cx="813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ЛБ вредност ПАМ се може наћи у литератури или одредити експериментал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132000" y="999720"/>
            <a:ext cx="3168720" cy="8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финициј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250920" y="1413000"/>
            <a:ext cx="8569080" cy="643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мулзије су хетерогени системи, дисперзије две течне фазе које се не мешају (уље и вода), при чему је једна фаза у виду капи диспергована у другој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за која је расподељена у виду капи назива се диспергована или дисперзна фаза, унутрашња (интерна) фаза или дисконтинуиран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за у којој је извршено дисперговање назива се дисперзно средство, спољашња (екстерна) или континуирана фаз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мулзије су термодинамички нестабилни систе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360" y="134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ЛБ за неке ПАМ које се користе у фармациј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10920" y="2781000"/>
            <a:ext cx="8296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rbitan trioleat (Span 85)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,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leinska kiselina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,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rbitan monooleat (Span</a:t>
            </a:r>
            <a:r>
              <a:rPr b="0" lang="sr-Latn-C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®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80)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,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rbitan monostearat (Span</a:t>
            </a:r>
            <a:r>
              <a:rPr b="0" lang="sr-Latn-C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®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60)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,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rbitan monolaurat (Span</a:t>
            </a:r>
            <a:r>
              <a:rPr b="0" lang="sr-Latn-C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®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0)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,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lisorbat 60 (polioksietilen sorbitanmonostearat)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,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lisorbat 80 (polioksietilen sorbitanmonooleat Tween</a:t>
            </a:r>
            <a:r>
              <a:rPr b="0" lang="sr-Latn-C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®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80)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lisorbat 20 (polioksietilen sorbitanmonolaurat Tween</a:t>
            </a:r>
            <a:r>
              <a:rPr b="0" lang="sr-Latn-C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®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0)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,7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alijum oleat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ела емулгатора типа ПА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68360" y="2349360"/>
            <a:ext cx="8229600" cy="467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ле су у 4 хемијске груп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јонс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тјонс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мфотер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јонс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062000"/>
            <a:ext cx="8229600" cy="78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јонске П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84428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воденом раствору дисосују при чему је за емулгујуће деловање одговоран анјон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кални сапуни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стеарат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олеат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рицинолат) -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/В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емулз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килсулфати – естри сумпорне кис.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лаурилсулфат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цетилсулфат) -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/В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емулз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ални сапуни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палмитат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стеарат) -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/У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емулз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мински сапуни (триетаноламин (ТЕА) –стеарат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/В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емулз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бомер – синтетички карбоксивинил анјонски полимер, з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/В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емулзије за интерну и спољашњу употребу; обично се користи у комбинацији са нејонским емулгаторим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836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тјонске П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989000"/>
            <a:ext cx="82296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воденом раствору дисосују при чему је за емулгујуће деловање одговоран катјон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исте се као дезинфекциона средства, поседују изражено антимикробно деловање, користе се као конзерванс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вартернерна амонијумова једињ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њ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нзалконијум хлорид, цетримид, цетилпиридинијум хлорид  - добра дезинфекциона сред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мфотерне П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6840" y="2287080"/>
            <a:ext cx="84358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емијска једињења са  катјонским и анјонским група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р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теини (желатин, казеин, жуманце јајета) – дају емулзије типа У/В за оралну примен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цитин биљног порекла (соја) и лецитин животињског порекла (жуманце јајета) – дају емулзије типа У/В, ређе В/У. ХЛБ лецитина је од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,5-6,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чишћени лецитин – емулгатор за инјекције типа У/В емулзија и емулзије масти за и.в. исхран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9528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јонске П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773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дисосују у воденом раствору. Стабилне при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-9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сни алкохоли (лаурил-, цетил- и стеарил алкохол, стероли/холестерол – дају емулзије типа В/У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три масних киселина и полихидроксилних алкохола-гликола, глицерола, сорбитол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у емулзије типа В/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рцијални естри масних киселина и полиоксиетилованог сорбитана (ПЕГ-ПОЕ- ПОЛИСОРБАТИ-ТWЕЕ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0,60,65,80,81 – дају емулзије типа У/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рцијални естри масних киселина и сорбитана (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AN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0,60,80,85 – дају емулзије типа В/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иоксиетиловани естри масних киселина (МАКРОГОЛНИ естри  - дају емулзије типа У/В. (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mophor S9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иоксиетиловани етри масних алкохола  (МАКРОГОЛНИ етри  - дају У/В или В/У емулзије у зависности од ХЛБ (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mophor A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rij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39528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стоје се од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пофилног тензида (цетостеарол, глицерил моностеарат) и хидрофилног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јонског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ензида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-лаурилсулфат) у односу 9: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пофилног тензида (цетостеарол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х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дрофилног тензида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-цетостеарилсулфат у односу 4: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могућавају израду течних емулзија и получврстих стабилних У/В кремова са високим садржајем вод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ниским концентрацијама образују ЛАМЕЛАРНЕ течне кристале са великом способношћу бубрењ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шани емулгатор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.Jug. IV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фициналан је мешани емулгатор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ra emulsificans </a:t>
            </a:r>
            <a:r>
              <a:rPr b="1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мулгујући восак)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ји се састоји од 90% цетостеарола и око 10%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-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лаурилсулфат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исти се за израду течних У/В емулзија (линимент бензил-бензоата) и у већим концентрацијама У/В кремова 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cipiens emulsificans aquosum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шани емулгатор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ређивање типа емулзије који гради мешани емулгато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тостеарол - В/У емулгатор (90%) ХЛБ &lt; 10 (липофилан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а-лаурилсулфат - У/В емулгатор (10%) ХЛБ = 40 (хидрофилан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ичина Na-лаурилсулфата jе много мања од количине цетостеарола али његова изразита хидрофилнос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ХЛБ = 40) диктира настајање емулзије типа У/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п емулзије коју гради мешани емулгатор зависи од емулгатора који има већу ХЛБ вредност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179280" y="2287080"/>
            <a:ext cx="896472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.Jug. V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r>
              <a:rPr b="1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.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r</a:t>
            </a:r>
            <a:r>
              <a:rPr b="1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писују анјонске емулгујуће воскове</a:t>
            </a:r>
            <a:r>
              <a:rPr b="1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тостеарил алкохол емулгујући </a:t>
            </a:r>
            <a:r>
              <a:rPr b="0" lang="sr-CS" sz="2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(тип А)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најмање 90% цетостеарил алкохола и најмање 7%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-цетостеарил сулфат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тостеарил алкохол емулгујући </a:t>
            </a:r>
            <a:r>
              <a:rPr b="0" lang="sr-CS" sz="2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(тип Б)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најмање 90% цетостеарола и најмање 7%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- лаурилсулфат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шани емулгатори 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јонски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9280" y="98064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729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личина честица (капљица) унутрашње фазе </a:t>
            </a:r>
            <a:br>
              <a:rPr sz="2800"/>
            </a:br>
            <a:br>
              <a:rPr sz="24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5"/>
          <p:cNvSpPr/>
          <p:nvPr/>
        </p:nvSpPr>
        <p:spPr>
          <a:xfrm>
            <a:off x="503280" y="1963800"/>
            <a:ext cx="8136000" cy="48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262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нерално, величина капи дисперзне фазе у емулзијама износи 1 – 100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µ</a:t>
            </a:r>
            <a:r>
              <a:rPr b="0" lang="sl-SI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262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рмацеутске емулзије за оралну примену -  дијаметар капи унутрашње фазе 1 - 20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µ</a:t>
            </a:r>
            <a:r>
              <a:rPr b="0" lang="sl-SI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262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262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мулзије за парентералну примену 200-500 </a:t>
            </a:r>
            <a:r>
              <a:rPr b="0" lang="sl-SI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m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ње од 1 μм) да би се избегла емболиј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262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262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сна и водена фаза имају различит индекс преламања видљиве светлости – емулзије течности беле боје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179280" y="1988640"/>
            <a:ext cx="87724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јонски мешани емулгатори (нејонски емулгујући воскови): комбинација липофилних и хидрофилних – нејонских тензид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имер</a:t>
            </a:r>
            <a:r>
              <a:rPr b="0" lang="sr-Latn-CS" sz="2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тостеарил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кохол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EG 400 steara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лова                  +              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тостеарил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кохол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een 60</a:t>
            </a:r>
            <a:r>
              <a:rPr b="0" lang="sr-Latn-C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лов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+              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title"/>
          </p:nvPr>
        </p:nvSpPr>
        <p:spPr>
          <a:xfrm>
            <a:off x="457200" y="1062000"/>
            <a:ext cx="8229600" cy="106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шани емулгатори </a:t>
            </a:r>
            <a:r>
              <a:rPr b="1" lang="sr-Latn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јонски</a:t>
            </a:r>
            <a:r>
              <a:rPr b="1" lang="sr-Latn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68360" y="907560"/>
            <a:ext cx="8229600" cy="116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имерни емулгатор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68000" y="2133360"/>
            <a:ext cx="867564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имерни емулгатори се адсорбују на граничној површини две фазе У/В емулзиј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употреби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rbomer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342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олимер акрилне киселине) и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PM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за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рмацеутске и козметичке емулзије типа У/В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концентрацијама 0,2 - 0,5% образују структуиране међуфазне филмове који спречавају коалесценцију уљаних капи, а незнатно повећавају вискозитет спољашње – водене фаз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нтетски полиоксиетилен-полиоксипропилен кополимер се користи самостално или у комбинацији са лецитином за стабилизацију парентералних инјекциј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6836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родни емулгатор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6836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пстанце природног порекла које имају својства ПАМ могу бити биљног и животињског порекл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љног порекла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полисахариди (трагаканта, агар, пектин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вотињског порекла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теини (желатин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лестерол; фосфолипиди, односно лецитин – из жуманцета јаја (употребљава се за израду парентералних У/В емулзија масти (за парентералну исхран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39640" y="764640"/>
            <a:ext cx="8229600" cy="121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растворни емулгатори (фино уситњене чврсте супстанце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479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усто паковане, фино уситњене, чврсте, нерастворљиве честице образују стабилан филм на граничној површини између уљане и водене фаз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љашња фаза је она која има највећи афинитет према чврстим честица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пходн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je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а чврсте честице буду сферног облика, имају способност квашења масном и воденом фазом да би се лоцирале између две течности и изградиле механичку баријеру за коалесценциј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имер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бентонит (У/В ем. за споља)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или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g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хидроксид (У/В оралне ем.); колоидни силицијум-диоксид (Аеросил); титан-диоксид и цинк-оксид као физички блокатори у емулзијама за заштиту од сунц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растворни емулгатор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Content Placeholder 3" descr=""/>
          <p:cNvPicPr/>
          <p:nvPr/>
        </p:nvPicPr>
        <p:blipFill>
          <a:blip r:embed="rId1"/>
          <a:stretch/>
        </p:blipFill>
        <p:spPr>
          <a:xfrm>
            <a:off x="1042920" y="2565360"/>
            <a:ext cx="4286160" cy="24130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6" descr=""/>
          <p:cNvPicPr/>
          <p:nvPr/>
        </p:nvPicPr>
        <p:blipFill>
          <a:blip r:embed="rId2"/>
          <a:stretch/>
        </p:blipFill>
        <p:spPr>
          <a:xfrm>
            <a:off x="6411960" y="4508640"/>
            <a:ext cx="2011320" cy="179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ици физичке нестабилности емулзија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39280" y="1915920"/>
            <a:ext cx="8420040" cy="546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8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верзибилне фазе (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мулгујући филм одржава своје особине)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sl-SI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локулација (удруживање капи унутрашње фазе</a:t>
            </a:r>
            <a:r>
              <a:rPr b="0" lang="sr-Latn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флокуле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– могућа редисперзиј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лојавање </a:t>
            </a: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lang="sr-Latn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ming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диментација - дисперговане капи воде седиментирају на дно код емулзија В/У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лотација - дисерговане капи уља испливавају на површину код емулзија У/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8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реверзибилне фазе (није могуће редисперговати емулзију):</a:t>
            </a:r>
            <a:r>
              <a:rPr b="1" lang="sl-SI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80008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алесценција (иреверзибилно спајање капи унутрашње фазе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80008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верзија (спољашња фаза постаје унутрашња – измена физичких карактеристика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sl-SI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2"/>
          <p:cNvSpPr/>
          <p:nvPr/>
        </p:nvSpPr>
        <p:spPr>
          <a:xfrm>
            <a:off x="1177920" y="939960"/>
            <a:ext cx="7924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ематски приказ нестабилности емулз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Group 3"/>
          <p:cNvGrpSpPr/>
          <p:nvPr/>
        </p:nvGrpSpPr>
        <p:grpSpPr>
          <a:xfrm>
            <a:off x="611280" y="2017800"/>
            <a:ext cx="7557480" cy="4766400"/>
            <a:chOff x="611280" y="2017800"/>
            <a:chExt cx="7557480" cy="4766400"/>
          </a:xfrm>
        </p:grpSpPr>
        <p:sp>
          <p:nvSpPr>
            <p:cNvPr id="159" name="Text Box 4"/>
            <p:cNvSpPr/>
            <p:nvPr/>
          </p:nvSpPr>
          <p:spPr>
            <a:xfrm>
              <a:off x="3328560" y="5994360"/>
              <a:ext cx="1783080" cy="50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Rectangle 5"/>
            <p:cNvSpPr/>
            <p:nvPr/>
          </p:nvSpPr>
          <p:spPr>
            <a:xfrm>
              <a:off x="3074040" y="5798520"/>
              <a:ext cx="2547360" cy="9777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Rectangle 6"/>
            <p:cNvSpPr/>
            <p:nvPr/>
          </p:nvSpPr>
          <p:spPr>
            <a:xfrm>
              <a:off x="3074040" y="2017800"/>
              <a:ext cx="2377080" cy="9777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Rectangle 7"/>
            <p:cNvSpPr/>
            <p:nvPr/>
          </p:nvSpPr>
          <p:spPr>
            <a:xfrm>
              <a:off x="5451480" y="3256200"/>
              <a:ext cx="2377440" cy="9777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Rectangle 8"/>
            <p:cNvSpPr/>
            <p:nvPr/>
          </p:nvSpPr>
          <p:spPr>
            <a:xfrm>
              <a:off x="5451480" y="4560120"/>
              <a:ext cx="2462760" cy="9777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Rectangle 9"/>
            <p:cNvSpPr/>
            <p:nvPr/>
          </p:nvSpPr>
          <p:spPr>
            <a:xfrm>
              <a:off x="696240" y="3321360"/>
              <a:ext cx="2462400" cy="9777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Rectangle 10"/>
            <p:cNvSpPr/>
            <p:nvPr/>
          </p:nvSpPr>
          <p:spPr>
            <a:xfrm>
              <a:off x="696240" y="4625280"/>
              <a:ext cx="2462400" cy="9126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Text Box 11"/>
            <p:cNvSpPr/>
            <p:nvPr/>
          </p:nvSpPr>
          <p:spPr>
            <a:xfrm>
              <a:off x="3074040" y="2669400"/>
              <a:ext cx="2631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C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Хомогена емулзиј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12"/>
            <p:cNvSpPr/>
            <p:nvPr/>
          </p:nvSpPr>
          <p:spPr>
            <a:xfrm>
              <a:off x="611280" y="3973320"/>
              <a:ext cx="2632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C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Флокулациј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13"/>
            <p:cNvSpPr/>
            <p:nvPr/>
          </p:nvSpPr>
          <p:spPr>
            <a:xfrm>
              <a:off x="696240" y="5211720"/>
              <a:ext cx="26323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C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очетна коалесценциј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 Box 14"/>
            <p:cNvSpPr/>
            <p:nvPr/>
          </p:nvSpPr>
          <p:spPr>
            <a:xfrm>
              <a:off x="5451480" y="5211720"/>
              <a:ext cx="26323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C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очетна коалесценциј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Text Box 15"/>
            <p:cNvSpPr/>
            <p:nvPr/>
          </p:nvSpPr>
          <p:spPr>
            <a:xfrm>
              <a:off x="5536440" y="3908160"/>
              <a:ext cx="26323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C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Раслојавање</a:t>
              </a:r>
              <a:r>
                <a:rPr b="0" lang="sl-SI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“creaming”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Text Box 16"/>
            <p:cNvSpPr/>
            <p:nvPr/>
          </p:nvSpPr>
          <p:spPr>
            <a:xfrm>
              <a:off x="3158640" y="6385320"/>
              <a:ext cx="2632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C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Раздвајање фаз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Rectangle 17"/>
            <p:cNvSpPr/>
            <p:nvPr/>
          </p:nvSpPr>
          <p:spPr>
            <a:xfrm>
              <a:off x="3074040" y="5798520"/>
              <a:ext cx="2547360" cy="39096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Oval 18"/>
            <p:cNvSpPr/>
            <p:nvPr/>
          </p:nvSpPr>
          <p:spPr>
            <a:xfrm>
              <a:off x="3328560" y="2082600"/>
              <a:ext cx="169560" cy="13032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Oval 19"/>
            <p:cNvSpPr/>
            <p:nvPr/>
          </p:nvSpPr>
          <p:spPr>
            <a:xfrm>
              <a:off x="3413160" y="2604240"/>
              <a:ext cx="169920" cy="12996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Oval 20"/>
            <p:cNvSpPr/>
            <p:nvPr/>
          </p:nvSpPr>
          <p:spPr>
            <a:xfrm>
              <a:off x="4262760" y="2408760"/>
              <a:ext cx="169560" cy="12996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Oval 21"/>
            <p:cNvSpPr/>
            <p:nvPr/>
          </p:nvSpPr>
          <p:spPr>
            <a:xfrm>
              <a:off x="4092840" y="2147760"/>
              <a:ext cx="169560" cy="12996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Oval 22"/>
            <p:cNvSpPr/>
            <p:nvPr/>
          </p:nvSpPr>
          <p:spPr>
            <a:xfrm>
              <a:off x="4007880" y="2604240"/>
              <a:ext cx="169560" cy="12996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Oval 23"/>
            <p:cNvSpPr/>
            <p:nvPr/>
          </p:nvSpPr>
          <p:spPr>
            <a:xfrm>
              <a:off x="4687200" y="2539080"/>
              <a:ext cx="169920" cy="12996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Oval 24"/>
            <p:cNvSpPr/>
            <p:nvPr/>
          </p:nvSpPr>
          <p:spPr>
            <a:xfrm>
              <a:off x="4432320" y="2147760"/>
              <a:ext cx="169920" cy="12996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Oval 25"/>
            <p:cNvSpPr/>
            <p:nvPr/>
          </p:nvSpPr>
          <p:spPr>
            <a:xfrm>
              <a:off x="5112000" y="2473920"/>
              <a:ext cx="169560" cy="13032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Oval 26"/>
            <p:cNvSpPr/>
            <p:nvPr/>
          </p:nvSpPr>
          <p:spPr>
            <a:xfrm>
              <a:off x="5027040" y="2147760"/>
              <a:ext cx="169560" cy="12996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Oval 27"/>
            <p:cNvSpPr/>
            <p:nvPr/>
          </p:nvSpPr>
          <p:spPr>
            <a:xfrm>
              <a:off x="3413160" y="2408760"/>
              <a:ext cx="169920" cy="12996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Oval 28"/>
            <p:cNvSpPr/>
            <p:nvPr/>
          </p:nvSpPr>
          <p:spPr>
            <a:xfrm>
              <a:off x="3753000" y="2082600"/>
              <a:ext cx="169560" cy="13032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Oval 29"/>
            <p:cNvSpPr/>
            <p:nvPr/>
          </p:nvSpPr>
          <p:spPr>
            <a:xfrm>
              <a:off x="4007880" y="2343600"/>
              <a:ext cx="169560" cy="12996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Oval 30"/>
            <p:cNvSpPr/>
            <p:nvPr/>
          </p:nvSpPr>
          <p:spPr>
            <a:xfrm>
              <a:off x="4347720" y="2604240"/>
              <a:ext cx="169560" cy="12996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Oval 31"/>
            <p:cNvSpPr/>
            <p:nvPr/>
          </p:nvSpPr>
          <p:spPr>
            <a:xfrm>
              <a:off x="4687200" y="2278080"/>
              <a:ext cx="169920" cy="13032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Oval 32"/>
            <p:cNvSpPr/>
            <p:nvPr/>
          </p:nvSpPr>
          <p:spPr>
            <a:xfrm>
              <a:off x="3668040" y="2343600"/>
              <a:ext cx="169920" cy="12996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Oval 33"/>
            <p:cNvSpPr/>
            <p:nvPr/>
          </p:nvSpPr>
          <p:spPr>
            <a:xfrm>
              <a:off x="3668040" y="2539080"/>
              <a:ext cx="169920" cy="12996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Oval 34"/>
            <p:cNvSpPr/>
            <p:nvPr/>
          </p:nvSpPr>
          <p:spPr>
            <a:xfrm>
              <a:off x="3498480" y="2213280"/>
              <a:ext cx="169560" cy="12996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Oval 35"/>
            <p:cNvSpPr/>
            <p:nvPr/>
          </p:nvSpPr>
          <p:spPr>
            <a:xfrm>
              <a:off x="4857120" y="2408760"/>
              <a:ext cx="169560" cy="12996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Oval 36"/>
            <p:cNvSpPr/>
            <p:nvPr/>
          </p:nvSpPr>
          <p:spPr>
            <a:xfrm>
              <a:off x="4687200" y="2082600"/>
              <a:ext cx="169920" cy="13032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Oval 37"/>
            <p:cNvSpPr/>
            <p:nvPr/>
          </p:nvSpPr>
          <p:spPr>
            <a:xfrm>
              <a:off x="3243600" y="2278080"/>
              <a:ext cx="169560" cy="13032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Oval 38"/>
            <p:cNvSpPr/>
            <p:nvPr/>
          </p:nvSpPr>
          <p:spPr>
            <a:xfrm>
              <a:off x="4517280" y="2408760"/>
              <a:ext cx="169560" cy="12996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Oval 39"/>
            <p:cNvSpPr/>
            <p:nvPr/>
          </p:nvSpPr>
          <p:spPr>
            <a:xfrm>
              <a:off x="5196600" y="2278080"/>
              <a:ext cx="169920" cy="13032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Oval 40"/>
            <p:cNvSpPr/>
            <p:nvPr/>
          </p:nvSpPr>
          <p:spPr>
            <a:xfrm>
              <a:off x="3158640" y="2473920"/>
              <a:ext cx="169920" cy="13032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Oval 41"/>
            <p:cNvSpPr/>
            <p:nvPr/>
          </p:nvSpPr>
          <p:spPr>
            <a:xfrm>
              <a:off x="5451480" y="3321360"/>
              <a:ext cx="169920" cy="12996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Oval 42"/>
            <p:cNvSpPr/>
            <p:nvPr/>
          </p:nvSpPr>
          <p:spPr>
            <a:xfrm>
              <a:off x="5621400" y="3321360"/>
              <a:ext cx="169560" cy="12996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Oval 43"/>
            <p:cNvSpPr/>
            <p:nvPr/>
          </p:nvSpPr>
          <p:spPr>
            <a:xfrm>
              <a:off x="5790960" y="3321360"/>
              <a:ext cx="169560" cy="12996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Oval 44"/>
            <p:cNvSpPr/>
            <p:nvPr/>
          </p:nvSpPr>
          <p:spPr>
            <a:xfrm>
              <a:off x="5960880" y="3321360"/>
              <a:ext cx="169920" cy="12996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Oval 45"/>
            <p:cNvSpPr/>
            <p:nvPr/>
          </p:nvSpPr>
          <p:spPr>
            <a:xfrm>
              <a:off x="6130800" y="3321360"/>
              <a:ext cx="169560" cy="12996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Oval 46"/>
            <p:cNvSpPr/>
            <p:nvPr/>
          </p:nvSpPr>
          <p:spPr>
            <a:xfrm>
              <a:off x="6300720" y="3321360"/>
              <a:ext cx="169560" cy="12996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Oval 47"/>
            <p:cNvSpPr/>
            <p:nvPr/>
          </p:nvSpPr>
          <p:spPr>
            <a:xfrm>
              <a:off x="6470280" y="3321360"/>
              <a:ext cx="169920" cy="12996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Oval 48"/>
            <p:cNvSpPr/>
            <p:nvPr/>
          </p:nvSpPr>
          <p:spPr>
            <a:xfrm>
              <a:off x="6640560" y="3321360"/>
              <a:ext cx="169560" cy="12996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Oval 49"/>
            <p:cNvSpPr/>
            <p:nvPr/>
          </p:nvSpPr>
          <p:spPr>
            <a:xfrm>
              <a:off x="6810120" y="3321360"/>
              <a:ext cx="169560" cy="12996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Oval 50"/>
            <p:cNvSpPr/>
            <p:nvPr/>
          </p:nvSpPr>
          <p:spPr>
            <a:xfrm>
              <a:off x="6979680" y="3321360"/>
              <a:ext cx="169920" cy="12996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Oval 51"/>
            <p:cNvSpPr/>
            <p:nvPr/>
          </p:nvSpPr>
          <p:spPr>
            <a:xfrm>
              <a:off x="7149960" y="3321360"/>
              <a:ext cx="169560" cy="12996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Oval 52"/>
            <p:cNvSpPr/>
            <p:nvPr/>
          </p:nvSpPr>
          <p:spPr>
            <a:xfrm>
              <a:off x="7319520" y="3321360"/>
              <a:ext cx="169560" cy="12996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Oval 53"/>
            <p:cNvSpPr/>
            <p:nvPr/>
          </p:nvSpPr>
          <p:spPr>
            <a:xfrm>
              <a:off x="7489440" y="3321360"/>
              <a:ext cx="169920" cy="12996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Oval 54"/>
            <p:cNvSpPr/>
            <p:nvPr/>
          </p:nvSpPr>
          <p:spPr>
            <a:xfrm>
              <a:off x="7659360" y="3321360"/>
              <a:ext cx="169560" cy="12996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Oval 55"/>
            <p:cNvSpPr/>
            <p:nvPr/>
          </p:nvSpPr>
          <p:spPr>
            <a:xfrm>
              <a:off x="5451480" y="3451680"/>
              <a:ext cx="169920" cy="13032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56"/>
            <p:cNvSpPr/>
            <p:nvPr/>
          </p:nvSpPr>
          <p:spPr>
            <a:xfrm>
              <a:off x="5621400" y="3451680"/>
              <a:ext cx="169560" cy="13032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57"/>
            <p:cNvSpPr/>
            <p:nvPr/>
          </p:nvSpPr>
          <p:spPr>
            <a:xfrm>
              <a:off x="5790960" y="3451680"/>
              <a:ext cx="169560" cy="13032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Oval 58"/>
            <p:cNvSpPr/>
            <p:nvPr/>
          </p:nvSpPr>
          <p:spPr>
            <a:xfrm>
              <a:off x="5960880" y="3451680"/>
              <a:ext cx="169920" cy="13032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Oval 59"/>
            <p:cNvSpPr/>
            <p:nvPr/>
          </p:nvSpPr>
          <p:spPr>
            <a:xfrm>
              <a:off x="6130800" y="3451680"/>
              <a:ext cx="169560" cy="13032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Oval 60"/>
            <p:cNvSpPr/>
            <p:nvPr/>
          </p:nvSpPr>
          <p:spPr>
            <a:xfrm>
              <a:off x="6300720" y="3451680"/>
              <a:ext cx="169560" cy="13032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Oval 61"/>
            <p:cNvSpPr/>
            <p:nvPr/>
          </p:nvSpPr>
          <p:spPr>
            <a:xfrm>
              <a:off x="6470280" y="3451680"/>
              <a:ext cx="169920" cy="13032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62"/>
            <p:cNvSpPr/>
            <p:nvPr/>
          </p:nvSpPr>
          <p:spPr>
            <a:xfrm>
              <a:off x="6640560" y="3451680"/>
              <a:ext cx="169560" cy="13032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Oval 63"/>
            <p:cNvSpPr/>
            <p:nvPr/>
          </p:nvSpPr>
          <p:spPr>
            <a:xfrm>
              <a:off x="6810120" y="3451680"/>
              <a:ext cx="169560" cy="13032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Oval 64"/>
            <p:cNvSpPr/>
            <p:nvPr/>
          </p:nvSpPr>
          <p:spPr>
            <a:xfrm>
              <a:off x="6979680" y="3451680"/>
              <a:ext cx="169920" cy="13032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Oval 65"/>
            <p:cNvSpPr/>
            <p:nvPr/>
          </p:nvSpPr>
          <p:spPr>
            <a:xfrm>
              <a:off x="7149960" y="3451680"/>
              <a:ext cx="169560" cy="13032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Oval 66"/>
            <p:cNvSpPr/>
            <p:nvPr/>
          </p:nvSpPr>
          <p:spPr>
            <a:xfrm>
              <a:off x="7319520" y="3451680"/>
              <a:ext cx="169560" cy="13032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Oval 67"/>
            <p:cNvSpPr/>
            <p:nvPr/>
          </p:nvSpPr>
          <p:spPr>
            <a:xfrm>
              <a:off x="7489440" y="3451680"/>
              <a:ext cx="169920" cy="13032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Oval 68"/>
            <p:cNvSpPr/>
            <p:nvPr/>
          </p:nvSpPr>
          <p:spPr>
            <a:xfrm>
              <a:off x="7659360" y="3451680"/>
              <a:ext cx="169560" cy="13032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Oval 69"/>
            <p:cNvSpPr/>
            <p:nvPr/>
          </p:nvSpPr>
          <p:spPr>
            <a:xfrm>
              <a:off x="5451480" y="3582360"/>
              <a:ext cx="169920" cy="12996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Oval 70"/>
            <p:cNvSpPr/>
            <p:nvPr/>
          </p:nvSpPr>
          <p:spPr>
            <a:xfrm>
              <a:off x="5621400" y="3582360"/>
              <a:ext cx="169560" cy="12996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Oval 71"/>
            <p:cNvSpPr/>
            <p:nvPr/>
          </p:nvSpPr>
          <p:spPr>
            <a:xfrm>
              <a:off x="6130800" y="3582360"/>
              <a:ext cx="169560" cy="12996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Oval 72"/>
            <p:cNvSpPr/>
            <p:nvPr/>
          </p:nvSpPr>
          <p:spPr>
            <a:xfrm>
              <a:off x="6300720" y="3582360"/>
              <a:ext cx="169560" cy="12996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Oval 73"/>
            <p:cNvSpPr/>
            <p:nvPr/>
          </p:nvSpPr>
          <p:spPr>
            <a:xfrm>
              <a:off x="6470280" y="3582360"/>
              <a:ext cx="169920" cy="12996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Oval 74"/>
            <p:cNvSpPr/>
            <p:nvPr/>
          </p:nvSpPr>
          <p:spPr>
            <a:xfrm>
              <a:off x="6979680" y="3582360"/>
              <a:ext cx="169920" cy="12996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Oval 75"/>
            <p:cNvSpPr/>
            <p:nvPr/>
          </p:nvSpPr>
          <p:spPr>
            <a:xfrm>
              <a:off x="7149960" y="3582360"/>
              <a:ext cx="169560" cy="12996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Oval 76"/>
            <p:cNvSpPr/>
            <p:nvPr/>
          </p:nvSpPr>
          <p:spPr>
            <a:xfrm>
              <a:off x="7319520" y="3582360"/>
              <a:ext cx="169560" cy="12996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Oval 77"/>
            <p:cNvSpPr/>
            <p:nvPr/>
          </p:nvSpPr>
          <p:spPr>
            <a:xfrm>
              <a:off x="7489440" y="3582360"/>
              <a:ext cx="169920" cy="12996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Oval 78"/>
            <p:cNvSpPr/>
            <p:nvPr/>
          </p:nvSpPr>
          <p:spPr>
            <a:xfrm>
              <a:off x="696240" y="3386520"/>
              <a:ext cx="169560" cy="12996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Oval 79"/>
            <p:cNvSpPr/>
            <p:nvPr/>
          </p:nvSpPr>
          <p:spPr>
            <a:xfrm>
              <a:off x="1120680" y="3451680"/>
              <a:ext cx="169920" cy="13032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Oval 80"/>
            <p:cNvSpPr/>
            <p:nvPr/>
          </p:nvSpPr>
          <p:spPr>
            <a:xfrm>
              <a:off x="1120680" y="3712680"/>
              <a:ext cx="169920" cy="12996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Oval 81"/>
            <p:cNvSpPr/>
            <p:nvPr/>
          </p:nvSpPr>
          <p:spPr>
            <a:xfrm>
              <a:off x="1120680" y="3582360"/>
              <a:ext cx="169920" cy="12996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Oval 82"/>
            <p:cNvSpPr/>
            <p:nvPr/>
          </p:nvSpPr>
          <p:spPr>
            <a:xfrm>
              <a:off x="1290600" y="3516840"/>
              <a:ext cx="169560" cy="12996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Oval 83"/>
            <p:cNvSpPr/>
            <p:nvPr/>
          </p:nvSpPr>
          <p:spPr>
            <a:xfrm>
              <a:off x="1290600" y="3712680"/>
              <a:ext cx="169560" cy="12996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Oval 84"/>
            <p:cNvSpPr/>
            <p:nvPr/>
          </p:nvSpPr>
          <p:spPr>
            <a:xfrm>
              <a:off x="1205640" y="3843000"/>
              <a:ext cx="169560" cy="13032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Oval 85"/>
            <p:cNvSpPr/>
            <p:nvPr/>
          </p:nvSpPr>
          <p:spPr>
            <a:xfrm>
              <a:off x="865800" y="3516840"/>
              <a:ext cx="169920" cy="12996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Oval 86"/>
            <p:cNvSpPr/>
            <p:nvPr/>
          </p:nvSpPr>
          <p:spPr>
            <a:xfrm>
              <a:off x="1630080" y="3647160"/>
              <a:ext cx="169920" cy="13032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Oval 87"/>
            <p:cNvSpPr/>
            <p:nvPr/>
          </p:nvSpPr>
          <p:spPr>
            <a:xfrm>
              <a:off x="2564280" y="3843000"/>
              <a:ext cx="169560" cy="13032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Oval 88"/>
            <p:cNvSpPr/>
            <p:nvPr/>
          </p:nvSpPr>
          <p:spPr>
            <a:xfrm>
              <a:off x="1375200" y="3908160"/>
              <a:ext cx="169920" cy="12996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Oval 89"/>
            <p:cNvSpPr/>
            <p:nvPr/>
          </p:nvSpPr>
          <p:spPr>
            <a:xfrm>
              <a:off x="2394360" y="3516840"/>
              <a:ext cx="169920" cy="12996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Oval 90"/>
            <p:cNvSpPr/>
            <p:nvPr/>
          </p:nvSpPr>
          <p:spPr>
            <a:xfrm>
              <a:off x="1969920" y="3647160"/>
              <a:ext cx="169560" cy="13032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Oval 91"/>
            <p:cNvSpPr/>
            <p:nvPr/>
          </p:nvSpPr>
          <p:spPr>
            <a:xfrm>
              <a:off x="1884960" y="3516840"/>
              <a:ext cx="169920" cy="12996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Oval 92"/>
            <p:cNvSpPr/>
            <p:nvPr/>
          </p:nvSpPr>
          <p:spPr>
            <a:xfrm>
              <a:off x="2054880" y="3516840"/>
              <a:ext cx="169560" cy="12996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Oval 93"/>
            <p:cNvSpPr/>
            <p:nvPr/>
          </p:nvSpPr>
          <p:spPr>
            <a:xfrm>
              <a:off x="2139480" y="3647160"/>
              <a:ext cx="169920" cy="13032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Oval 94"/>
            <p:cNvSpPr/>
            <p:nvPr/>
          </p:nvSpPr>
          <p:spPr>
            <a:xfrm>
              <a:off x="781200" y="3777840"/>
              <a:ext cx="169560" cy="12996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Oval 95"/>
            <p:cNvSpPr/>
            <p:nvPr/>
          </p:nvSpPr>
          <p:spPr>
            <a:xfrm>
              <a:off x="1545480" y="3451680"/>
              <a:ext cx="169560" cy="13032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Oval 96"/>
            <p:cNvSpPr/>
            <p:nvPr/>
          </p:nvSpPr>
          <p:spPr>
            <a:xfrm>
              <a:off x="1715040" y="3777840"/>
              <a:ext cx="169560" cy="12996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Oval 97"/>
            <p:cNvSpPr/>
            <p:nvPr/>
          </p:nvSpPr>
          <p:spPr>
            <a:xfrm>
              <a:off x="1884960" y="3908160"/>
              <a:ext cx="169920" cy="12996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Oval 98"/>
            <p:cNvSpPr/>
            <p:nvPr/>
          </p:nvSpPr>
          <p:spPr>
            <a:xfrm>
              <a:off x="1800360" y="3647160"/>
              <a:ext cx="169560" cy="13032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Oval 99"/>
            <p:cNvSpPr/>
            <p:nvPr/>
          </p:nvSpPr>
          <p:spPr>
            <a:xfrm>
              <a:off x="2734200" y="3516840"/>
              <a:ext cx="169560" cy="12996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Oval 100"/>
            <p:cNvSpPr/>
            <p:nvPr/>
          </p:nvSpPr>
          <p:spPr>
            <a:xfrm>
              <a:off x="950760" y="4755600"/>
              <a:ext cx="169560" cy="12996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Oval 101"/>
            <p:cNvSpPr/>
            <p:nvPr/>
          </p:nvSpPr>
          <p:spPr>
            <a:xfrm>
              <a:off x="1120680" y="4885920"/>
              <a:ext cx="169920" cy="12996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Oval 102"/>
            <p:cNvSpPr/>
            <p:nvPr/>
          </p:nvSpPr>
          <p:spPr>
            <a:xfrm>
              <a:off x="1290600" y="5016240"/>
              <a:ext cx="169560" cy="13032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Oval 103"/>
            <p:cNvSpPr/>
            <p:nvPr/>
          </p:nvSpPr>
          <p:spPr>
            <a:xfrm>
              <a:off x="2649240" y="4755600"/>
              <a:ext cx="169920" cy="12996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Oval 104"/>
            <p:cNvSpPr/>
            <p:nvPr/>
          </p:nvSpPr>
          <p:spPr>
            <a:xfrm>
              <a:off x="1630080" y="4755600"/>
              <a:ext cx="169920" cy="12996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Oval 105"/>
            <p:cNvSpPr/>
            <p:nvPr/>
          </p:nvSpPr>
          <p:spPr>
            <a:xfrm>
              <a:off x="1884960" y="5016240"/>
              <a:ext cx="169920" cy="13032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Oval 106"/>
            <p:cNvSpPr/>
            <p:nvPr/>
          </p:nvSpPr>
          <p:spPr>
            <a:xfrm>
              <a:off x="1969920" y="4820760"/>
              <a:ext cx="169560" cy="13032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Oval 107"/>
            <p:cNvSpPr/>
            <p:nvPr/>
          </p:nvSpPr>
          <p:spPr>
            <a:xfrm>
              <a:off x="2309760" y="4690440"/>
              <a:ext cx="254520" cy="1954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Oval 108"/>
            <p:cNvSpPr/>
            <p:nvPr/>
          </p:nvSpPr>
          <p:spPr>
            <a:xfrm>
              <a:off x="1545480" y="4951440"/>
              <a:ext cx="254520" cy="1954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Oval 109"/>
            <p:cNvSpPr/>
            <p:nvPr/>
          </p:nvSpPr>
          <p:spPr>
            <a:xfrm>
              <a:off x="2734200" y="5016240"/>
              <a:ext cx="254520" cy="1954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Oval 110"/>
            <p:cNvSpPr/>
            <p:nvPr/>
          </p:nvSpPr>
          <p:spPr>
            <a:xfrm>
              <a:off x="865800" y="5016240"/>
              <a:ext cx="254520" cy="1954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Oval 111"/>
            <p:cNvSpPr/>
            <p:nvPr/>
          </p:nvSpPr>
          <p:spPr>
            <a:xfrm>
              <a:off x="2139480" y="4885920"/>
              <a:ext cx="509400" cy="39096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Oval 112"/>
            <p:cNvSpPr/>
            <p:nvPr/>
          </p:nvSpPr>
          <p:spPr>
            <a:xfrm>
              <a:off x="1205640" y="4625280"/>
              <a:ext cx="424440" cy="32616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Oval 113"/>
            <p:cNvSpPr/>
            <p:nvPr/>
          </p:nvSpPr>
          <p:spPr>
            <a:xfrm>
              <a:off x="5790960" y="4690440"/>
              <a:ext cx="169560" cy="12996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Oval 114"/>
            <p:cNvSpPr/>
            <p:nvPr/>
          </p:nvSpPr>
          <p:spPr>
            <a:xfrm>
              <a:off x="5960880" y="4820760"/>
              <a:ext cx="169920" cy="13032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Oval 115"/>
            <p:cNvSpPr/>
            <p:nvPr/>
          </p:nvSpPr>
          <p:spPr>
            <a:xfrm>
              <a:off x="6130800" y="4951440"/>
              <a:ext cx="169560" cy="12996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Oval 116"/>
            <p:cNvSpPr/>
            <p:nvPr/>
          </p:nvSpPr>
          <p:spPr>
            <a:xfrm>
              <a:off x="7404480" y="4820760"/>
              <a:ext cx="169560" cy="13032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Oval 117"/>
            <p:cNvSpPr/>
            <p:nvPr/>
          </p:nvSpPr>
          <p:spPr>
            <a:xfrm>
              <a:off x="6470280" y="4690440"/>
              <a:ext cx="169920" cy="12996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Oval 118"/>
            <p:cNvSpPr/>
            <p:nvPr/>
          </p:nvSpPr>
          <p:spPr>
            <a:xfrm>
              <a:off x="6725160" y="4951440"/>
              <a:ext cx="169920" cy="12996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Oval 119"/>
            <p:cNvSpPr/>
            <p:nvPr/>
          </p:nvSpPr>
          <p:spPr>
            <a:xfrm>
              <a:off x="6810120" y="4755600"/>
              <a:ext cx="169560" cy="12996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Oval 120"/>
            <p:cNvSpPr/>
            <p:nvPr/>
          </p:nvSpPr>
          <p:spPr>
            <a:xfrm>
              <a:off x="7149960" y="4625280"/>
              <a:ext cx="254520" cy="1954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Oval 121"/>
            <p:cNvSpPr/>
            <p:nvPr/>
          </p:nvSpPr>
          <p:spPr>
            <a:xfrm>
              <a:off x="6385680" y="4885920"/>
              <a:ext cx="254520" cy="1954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Oval 122"/>
            <p:cNvSpPr/>
            <p:nvPr/>
          </p:nvSpPr>
          <p:spPr>
            <a:xfrm>
              <a:off x="7574400" y="4951440"/>
              <a:ext cx="254520" cy="1954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Oval 123"/>
            <p:cNvSpPr/>
            <p:nvPr/>
          </p:nvSpPr>
          <p:spPr>
            <a:xfrm>
              <a:off x="5706000" y="4951440"/>
              <a:ext cx="254520" cy="1954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Oval 124"/>
            <p:cNvSpPr/>
            <p:nvPr/>
          </p:nvSpPr>
          <p:spPr>
            <a:xfrm>
              <a:off x="6979680" y="4885920"/>
              <a:ext cx="509400" cy="39096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Oval 125"/>
            <p:cNvSpPr/>
            <p:nvPr/>
          </p:nvSpPr>
          <p:spPr>
            <a:xfrm>
              <a:off x="6045840" y="4560120"/>
              <a:ext cx="424440" cy="3258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Line 126"/>
            <p:cNvSpPr/>
            <p:nvPr/>
          </p:nvSpPr>
          <p:spPr>
            <a:xfrm>
              <a:off x="1800360" y="5668200"/>
              <a:ext cx="933840" cy="456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Line 127"/>
            <p:cNvSpPr/>
            <p:nvPr/>
          </p:nvSpPr>
          <p:spPr>
            <a:xfrm flipH="1">
              <a:off x="5960880" y="5668200"/>
              <a:ext cx="1018800" cy="456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Line 128"/>
            <p:cNvSpPr/>
            <p:nvPr/>
          </p:nvSpPr>
          <p:spPr>
            <a:xfrm>
              <a:off x="1969920" y="4364640"/>
              <a:ext cx="0" cy="260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Line 129"/>
            <p:cNvSpPr/>
            <p:nvPr/>
          </p:nvSpPr>
          <p:spPr>
            <a:xfrm>
              <a:off x="6640560" y="4299120"/>
              <a:ext cx="0" cy="260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Line 130"/>
            <p:cNvSpPr/>
            <p:nvPr/>
          </p:nvSpPr>
          <p:spPr>
            <a:xfrm>
              <a:off x="3583440" y="3582360"/>
              <a:ext cx="1698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Line 131"/>
            <p:cNvSpPr/>
            <p:nvPr/>
          </p:nvSpPr>
          <p:spPr>
            <a:xfrm flipH="1">
              <a:off x="3583080" y="3908160"/>
              <a:ext cx="1698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Line 132"/>
            <p:cNvSpPr/>
            <p:nvPr/>
          </p:nvSpPr>
          <p:spPr>
            <a:xfrm flipH="1">
              <a:off x="2224800" y="2669400"/>
              <a:ext cx="678960" cy="521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Line 133"/>
            <p:cNvSpPr/>
            <p:nvPr/>
          </p:nvSpPr>
          <p:spPr>
            <a:xfrm>
              <a:off x="5621400" y="2604240"/>
              <a:ext cx="678960" cy="521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Line 134"/>
            <p:cNvSpPr/>
            <p:nvPr/>
          </p:nvSpPr>
          <p:spPr>
            <a:xfrm flipV="1">
              <a:off x="1630080" y="2343240"/>
              <a:ext cx="1018800" cy="782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Line 135"/>
            <p:cNvSpPr/>
            <p:nvPr/>
          </p:nvSpPr>
          <p:spPr>
            <a:xfrm flipH="1" flipV="1">
              <a:off x="5876280" y="2343240"/>
              <a:ext cx="848880" cy="651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/>
          </p:nvPr>
        </p:nvSpPr>
        <p:spPr>
          <a:xfrm>
            <a:off x="601560" y="2057040"/>
            <a:ext cx="785664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а суспендовања (“континентална метода”)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део емулгатора се суспендује у 2 дела фазе у којој се не раствара (то је унутрашња фаза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затим се додаје 1,5 део спољашње фазе и настаје “примарна” емулзиј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арној емулзији се постепено, уз мешање, додаје остатак спољашње фаз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ва метода се примењује за израду емулзија У/В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да се користи нпр. арапска гума или трагаканта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о емулгатор</a:t>
            </a:r>
            <a:r>
              <a:rPr b="0" lang="sl-SI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РАДА ЕМУЛЗИЈ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/>
          </p:nvPr>
        </p:nvSpPr>
        <p:spPr>
          <a:xfrm>
            <a:off x="457200" y="1341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а растварања (“енглеска метода”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Емулгатор се раствори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спољашњој фази, по потреби уз умерено загревањ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епено, уз мешање додаје се унутрашња фаз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дити рачуна да не дође до уклапања ваздух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/>
          </p:nvPr>
        </p:nvSpPr>
        <p:spPr>
          <a:xfrm>
            <a:off x="457200" y="148428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мулзиона (променљива) метода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мулгатору се додаје одређена количина унутрашње па спољашње фазе, да би се створило “језгро” емулзиј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ље се наизменично додаје део унутрашње па део спољашње фазе док се не емулгују, уз стално мешањ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6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пови емулз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2"/>
          <p:cNvSpPr/>
          <p:nvPr/>
        </p:nvSpPr>
        <p:spPr>
          <a:xfrm>
            <a:off x="324000" y="1916280"/>
            <a:ext cx="8351640" cy="53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84240" indent="17784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дноставне емулзије </a:t>
            </a:r>
            <a:r>
              <a:rPr b="0" lang="sr-C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 двофазни системи који се састоје из уљане и водене фазе и емулгатора (не представља посебну фазу</a:t>
            </a:r>
            <a:r>
              <a:rPr b="0" lang="sr-Latn-C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84240" indent="17784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а основна типа течних емулзија су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/В и В/У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84240" indent="17784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п емулзије зависи од удела водене и масне фазе, врсте емулгатора и начина израде емулзије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84240" indent="17784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84240" indent="17784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шеструке емулзије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вода диспергована у уљу а затим формирана емулзија се даље диспергује у другој воденој фази – формира се емулзија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/У/В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84240" indent="17784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да се уље диспергује у води а затим се формирана емулзија даље диспергује у другој уљаној фази – формира се емулзија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/В/У.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ребни су и хидрофилни и липофилни емулгатор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84240" indent="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 txBox="1"/>
          <p:nvPr/>
        </p:nvSpPr>
        <p:spPr>
          <a:xfrm>
            <a:off x="457200" y="1197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е за процену стабилности емулзиј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иљ: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виђање рока употреб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стови стреса: гравитациони стрес и термални стре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витациони стрес – центрифугирање на 3000 обртаја/мин два пута по 15 мин. или одједном 30 мин. Након центрифугирања не би требало да дође до раздвајања фаза или одвајања дела унутрашње фаз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мални стрес – резултат примене повишене температуре од 40°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 одређеном временском интервалу помножен фактором 4 даје приближан рок трајања за производ који се чува на собној температури. Примењује се и ниска температура око 4°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замрзавање - 5°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итивање емулзиј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79280" y="1494000"/>
            <a:ext cx="8856720" cy="53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sr-Latn-C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</a:t>
            </a:r>
            <a:r>
              <a:rPr b="0" lang="sr-C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олептички изглед емулзије – хомогене, равномерно обојене, мућкањем се редиспергују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Одређивање рН вредности (рН-метром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Одређивање величине капи дисперговане фазе –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кроскопски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Испитивање стабилности емулзиј</a:t>
            </a:r>
            <a:r>
              <a:rPr b="0" lang="sr-Latn-C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нтрифугирањем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лагањем повишеној температури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lang="sr-Latn-C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итивање микробиолошког квалитета (захтев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рмакопеје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h.Jug. V</a:t>
            </a:r>
            <a:r>
              <a:rPr b="0" lang="sr-Latn-C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5.1.4): 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љашње - категорија 2, за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рну употребу категорија 3А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 Одређивање реолошких параметара: вискозитет и тип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тицања (зависност напона смицања од брзине смицања</a:t>
            </a:r>
            <a:r>
              <a:rPr b="0" lang="sr-Latn-C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итивање емулзиј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1699920"/>
            <a:ext cx="7772400" cy="51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ређивање </a:t>
            </a:r>
            <a:r>
              <a:rPr b="0" lang="ru-RU" sz="2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типа емулзије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помоћу неколико метода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блаживање емулзије са водом (ем. У/В се меша са водом а В/У ће се у виду капи разлити по површини вод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оћу филтер папира (капањем на филтер папир: широка мрља У/В емулзија; мала мрља која се не шири В/У емулзиј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 кобалт папиром (натопљен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Cl</a:t>
            </a:r>
            <a:r>
              <a:rPr b="0" lang="sr-Latn-C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во обојен: код ем.У/В ружичаста боја, а код ем. В/У тамно плаво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јење ем. липосолубилном (Судан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или хидросолубилном (метиленско плаво) бојом и посматрање обојења под микроскоп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рење електричне проводљивости, кондуктометријски (пров. &lt; 1µS/cm j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/У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&gt; 50 µS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/В, а ако је између 1 – 50, тада је мешови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987280" y="907560"/>
            <a:ext cx="3714840" cy="89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кроемулзиј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1" name=""/>
          <p:cNvGraphicFramePr/>
          <p:nvPr/>
        </p:nvGraphicFramePr>
        <p:xfrm>
          <a:off x="1258920" y="4581360"/>
          <a:ext cx="7157880" cy="2054520"/>
        </p:xfrm>
        <a:graphic>
          <a:graphicData uri="http://schemas.openxmlformats.org/drawingml/2006/table">
            <a:tbl>
              <a:tblPr/>
              <a:tblGrid>
                <a:gridCol w="2386080"/>
                <a:gridCol w="2386080"/>
                <a:gridCol w="2385720"/>
              </a:tblGrid>
              <a:tr h="559800">
                <a:tc>
                  <a:txBody>
                    <a:bodyPr lIns="81360" rIns="81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1360" marR="81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1360" rIns="81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000" spc="-1" strike="noStrike">
                          <a:solidFill>
                            <a:srgbClr val="222268"/>
                          </a:solidFill>
                          <a:latin typeface="Times New Roman"/>
                        </a:rPr>
                        <a:t>Класична емулзиј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1360" marR="81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1360" rIns="81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000" spc="-1" strike="noStrike">
                          <a:solidFill>
                            <a:srgbClr val="222268"/>
                          </a:solidFill>
                          <a:latin typeface="Times New Roman"/>
                        </a:rPr>
                        <a:t>Микроемулзиј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1360" marR="81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81360" rIns="81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000" spc="-1" strike="noStrike">
                          <a:solidFill>
                            <a:srgbClr val="222268"/>
                          </a:solidFill>
                          <a:latin typeface="Times New Roman"/>
                        </a:rPr>
                        <a:t>Величина кап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1360" marR="81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1360" rIns="81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- </a:t>
                      </a:r>
                      <a:r>
                        <a:rPr b="0" lang="sr-R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1360" marR="81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1360" rIns="81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nm –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1360" marR="81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81360" rIns="81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000" spc="-1" strike="noStrike">
                          <a:solidFill>
                            <a:srgbClr val="222268"/>
                          </a:solidFill>
                          <a:latin typeface="Times New Roman"/>
                        </a:rPr>
                        <a:t>Изгле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1360" marR="81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1360" rIns="81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лечно бел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1360" marR="81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1360" rIns="81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ранспарентн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1360" marR="81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81360" rIns="81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000" spc="-1" strike="noStrike">
                          <a:solidFill>
                            <a:srgbClr val="222268"/>
                          </a:solidFill>
                          <a:latin typeface="Times New Roman"/>
                        </a:rPr>
                        <a:t>Стабилнос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1360" marR="81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1360" rIns="81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ермодинамски нестабилн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1360" marR="81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1360" rIns="81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ермодинамски стабилн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1360" marR="81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2" name="Text Box 26"/>
          <p:cNvSpPr/>
          <p:nvPr/>
        </p:nvSpPr>
        <p:spPr>
          <a:xfrm>
            <a:off x="468360" y="1628640"/>
            <a:ext cx="82170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анспарентни колоидни раствори који се састоје од водене фазе, липофилне фазе и одређене амфифилне компонент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модинамски стабилне, оптички бистре дисперзије, али нису емулзиони системи, настају спонтано без утрошка енергиј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модинамска стабилност је одговорна за спонтано формирање микроемулзија, без употребе енергиј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билизоване су великим количинама емулгатора (до 30%) уз додатак коемулгатор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гу бити типа У/В и В/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/>
          </p:nvPr>
        </p:nvSpPr>
        <p:spPr>
          <a:xfrm>
            <a:off x="395280" y="1982880"/>
            <a:ext cx="4829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став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икроемулзиј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љана фаза (5 – 25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емулгатор (10 – 25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оемулгатор (2,5 – 6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V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зличите активне компонен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дена фа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title"/>
          </p:nvPr>
        </p:nvSpPr>
        <p:spPr>
          <a:xfrm>
            <a:off x="46836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кроемулзиј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ности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анспарентн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модинамска стабилн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дноставност израде (спонтано формирањ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гућност инкорпорирања хидро- и липофилних супстанц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гућност стерилизације топлотним методам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гућност разблаживања водом или уљ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гућност експедовања у облику аеросо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кроемулзиј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/>
          </p:nvPr>
        </p:nvSpPr>
        <p:spPr>
          <a:xfrm>
            <a:off x="179280" y="2287080"/>
            <a:ext cx="850752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н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рмофармацеутска приме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фталмолошка примена (садрже лецитин као емулгатор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рентерална приме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орална примена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ndimun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or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® уљани раствор: при мешању са биолошким течностима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situ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формира У/В емулзију – величина капи око 30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m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повећава се активна површина тешко растворног циклоспорина а тиме и биорасположив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кроемулзиј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9528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Наноемулзиј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550440" y="1628640"/>
            <a:ext cx="8342280" cy="538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стабилни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нанодисперзни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и – не могу се формирати спонта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стоје се од капи уља које су окружене мономолекуларним филмом (уљано језгро), најчешће од фосфолипида (лецитин) и воде као спољашње фазе. Средњи дијаметар капи је од 50 – 1000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nm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најчешће 100 – 500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nm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израду је потребан велики утрошак енергије и посебни уређаји који раде као хомогенизатори под високим притиско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једно са липозомима, масним (липидним) наночестицама припадају тзв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н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одисперзним системима, познатим и као субмикронске, миниемулзиј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Наноемулзиј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енцијални носачи за контролисано ослобађање лековитих, посебно липофилних супстанци за парентералну, оралну и трансдермалну примен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рентералне емулзије масти: 10 – 20% сојиног уља, 0,5 – 2% лецитина из жуманцета јајета или соје (емулгатор) и вода за инјекциј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062000"/>
            <a:ext cx="8229600" cy="294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s://www.youtube.com/watch?v=BQLDpcOcH_4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4360" y="1052640"/>
            <a:ext cx="7772400" cy="78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нографије лековитих облика типа емулзиј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8360" y="1677600"/>
            <a:ext cx="7772400" cy="518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258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258840" indent="-2286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.Jug. IV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 називом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ULSIONES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разумева само емулзије за </a:t>
            </a:r>
            <a:r>
              <a:rPr b="0" lang="ru-RU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ралну примену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па У/В</a:t>
            </a:r>
            <a:r>
              <a:rPr b="1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258840" indent="-2286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.Jug. V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.Eur. 7.0 </a:t>
            </a:r>
            <a:r>
              <a:rPr b="1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оји општа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нографија емулзија већ се у оквиру других монографија наводи да ти лековити облици могу бити и препарати типа емулзија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2588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Течни препарати за оралну примену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2588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Течни препарати за примену на кож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2588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епарати за уш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2588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епарати за нос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2588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Фармацеутски препарати под притиско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2588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арентерални препарати (инјекције и инфузије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2588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ектални преп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ат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2588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588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588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ела емулз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95280" y="1773000"/>
            <a:ext cx="85694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25884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ма конзистенцији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мулзије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 деле на течне (емулзије) и получврсте (кремови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25884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чне емулзије типа У/В за спољашњу употребу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ивају се и емулзиони лосиони или у козметици млеко за кож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ма начину примене</a:t>
            </a:r>
            <a:r>
              <a:rPr b="1" i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25884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рно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per os) –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/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25884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кстерно 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/В, В/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25884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рентерално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.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искључиво У/В)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.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/В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/У 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по и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јекције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ма стабилности (садржају емулгатора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25884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е емулзије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држе један или више емулгатора, стабилан систем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25884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зи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сеудо емулзије – не садрже емулгатор, а стабилност  се краткотрајно одржава високим вискозитетом спољашње фазе (нестабилни системи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258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68360" y="1699920"/>
            <a:ext cx="8136000" cy="501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25884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алне емулзије типа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/В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користе се за доставу лековитих уља у третману констипације (минерална уља, рицинусово уље) или као дијететски суплементни (рибље уље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25884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мулзије типа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/В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оје садрже биљна уља користе се за доставу лекова и витамина који се слабо растварају у вод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25884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ерилне интравенске емулзије типа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/В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е користе за парентералну исхрану као извор калорија и есенцијалних масних киселина. Оваква емулзија може да буде и носач лековите супстанце са ограниченом растворљивошћу у води (нпр. диазепам, витамин К, доцетаксел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258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2"/>
          <p:cNvSpPr/>
          <p:nvPr/>
        </p:nvSpPr>
        <p:spPr>
          <a:xfrm>
            <a:off x="971640" y="981000"/>
            <a:ext cx="65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на емулз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457200" y="1341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мулзије у које је инкорпорирано контрастно средство користе се за рендгенско снимање, томографију и магнетну резонанцу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рматолошке емулзије, намењене за доставу лека на/у кожу могу бити и типа У/В и В/У – лосиони, линимента, кремов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9528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улација емулз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916280"/>
            <a:ext cx="82296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бор уљане фазе, емулгатора и типа емулзије зависе од пута апликације и клиничке примене емулзиј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ође треба узети у обзир потенцијалну токсичност ексципијенаса, могуће инкомпатибилије и цен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Избор типа емулз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п емулзије значајно смањује број расположивих емулгато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израду емулзија типа У/В користе се хидрофилни тј. У/В емулгатор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израду емулзија типа В/У користе се липофилни тј. В/У емулгатор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3T19:01:08Z</dcterms:created>
  <dc:creator>User</dc:creator>
  <dc:description/>
  <dc:language>en-US</dc:language>
  <cp:lastModifiedBy>0</cp:lastModifiedBy>
  <dcterms:modified xsi:type="dcterms:W3CDTF">2022-10-26T07:43:27Z</dcterms:modified>
  <cp:revision>213</cp:revision>
  <dc:subject/>
  <dc:title>Slide 1</dc:title>
</cp:coreProperties>
</file>